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790-E31F-41A0-BDD9-990710B0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D05-449A-4CE9-BD24-D9D9E091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A80-2DE9-4432-9F59-58D48159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299-22A0-4B36-A156-0902D5B9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4F3E-BA6E-4966-9D47-DC93045F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4DC8-57B4-4560-A411-00120139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318B-26B4-4FD1-B076-64DC367D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FFD7-E229-4025-9300-7751859A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6C1F-8882-4CFD-996E-B2E9EE99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7F9C-AF96-46D6-A022-F1188535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A0EA-827C-415B-8B13-2EA32F93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AAF-D1C9-45AA-A092-5152346C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597C-1E30-4D9B-9BE7-E287DE0D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EEDD-DBF7-4A56-B7A7-DF4E54E3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643D-F9DF-49D6-A2A9-F10BD76D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09C7-B79C-4054-B30F-C7A99BEE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7B17-5A85-43E4-A86D-7FAFACC1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7BA-6F49-4EDC-9798-8E019DC8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ED4-9CF3-4A57-ABAF-07AE3B8B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BA8-A527-4B17-B41E-E27BF45E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9C8-62FE-4946-BC79-779ED0F9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9FD-2DAC-4260-9292-ABF10014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6E3F-C599-473D-A552-FE711983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8D8-8C06-405C-B402-DD786CCD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3107-7EFF-4D84-9DA8-4F0F5B0989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DD36-F856-4CEF-A8ED-17AAB1E40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27280" y="404280"/>
            <a:ext cx="40132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d9d9ff"/>
                </a:solidFill>
                <a:uFillTx/>
                <a:latin typeface="Comic Sans MS"/>
              </a:rPr>
              <a:t>Dwy goes, pedair coes.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10920" y="134100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ae Si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ôn yn edrych allan ar y ia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ae’n gweld nifer o fechgyn a chw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ae’n cyfrif 22 pen a 68 co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awl bachgen sydd yn y iar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88000" y="3573360"/>
            <a:ext cx="316872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8:44:49Z</dcterms:created>
  <dc:creator>Carwyn</dc:creator>
  <dc:description/>
  <dc:language>en-US</dc:language>
  <cp:lastModifiedBy>Carwyn</cp:lastModifiedBy>
  <dcterms:modified xsi:type="dcterms:W3CDTF">2008-12-05T18:55:05Z</dcterms:modified>
  <cp:revision>2</cp:revision>
  <dc:subject/>
  <dc:title>Dwy goes, pedair coes.</dc:title>
</cp:coreProperties>
</file>